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7F4-4732-4222-9CBC-557596EA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DB5-D70A-4133-9C8F-C3C973D0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28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D43-51D4-4126-8E88-D9B45406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5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39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5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39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BE5-A910-4F51-A8F8-5EC22F7E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E3F0-547B-49DF-89BC-99E745F7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1CDB-1210-4B17-9123-7F405404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0B4C-03B8-452C-9D1A-E440B5C3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AED9-DC0F-443F-AB69-9C8ACF09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FD3B-1C7A-4D09-AB21-84CC61B5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B5E1-BC76-4EA2-A52A-013B3B60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B43D-7AC1-4CBF-9B3B-3A403A5A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2CB-5D1A-4636-8C4F-6EB02377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28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7308-897F-47B3-91E6-05FE5326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82D3-1A17-4068-95C9-30C42BC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F928-803E-4613-A522-3629FAA5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28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F802-11C1-4174-B92A-50E6672B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85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39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85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39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4D17-8DF5-4486-A667-A0940B82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C81-5398-41BC-A5D5-C2C69144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847-D919-44AE-A36E-EEE8985A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F72-892C-4A5C-964D-56DD4BB9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4B8-06AA-4259-8B16-DEB75E76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FD0-170D-4D8C-B9B2-9386FF60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28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3E5-7D8C-41F8-B16F-6496CD44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ECC-886B-4742-AD94-5445363F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43040" y="6171840"/>
            <a:ext cx="350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33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Verdana"/>
              </a:rPr>
              <a:t>现代实验技术（管理）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38136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199B-18BC-4F70-B819-CC33E8231CA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3680" cy="12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ADF-46F8-43B6-AC3F-D24FCF581E5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2014&#22269;&#23478;&#40723;&#21169;&#36827;&#21475;&#20135;&#21697;&#30446;&#24405;.xls" TargetMode="External"/><Relationship Id="rId3" Type="http://schemas.openxmlformats.org/officeDocument/2006/relationships/hyperlink" Target="file:///2014&#22269;&#23478;&#40723;&#21169;&#36827;&#21475;&#20135;&#21697;&#30446;&#24405;.xls" TargetMode="External"/><Relationship Id="rId4" Type="http://schemas.openxmlformats.org/officeDocument/2006/relationships/hyperlink" Target="file:///2014&#22269;&#23478;&#40723;&#21169;&#36827;&#21475;&#20135;&#21697;&#30446;&#24405;.xls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40723;&#21169;&#36827;&#21475;20140421/&#34920;1&#20840;&#33258;&#21160;&#30005;&#27891;&#20202;&#35770;&#35777;&#24847;&#35265;&#65288;&#40723;&#21169;&#36827;&#21475;&#65289;.doc" TargetMode="External"/><Relationship Id="rId3" Type="http://schemas.openxmlformats.org/officeDocument/2006/relationships/hyperlink" Target="file:///&#40723;&#21169;&#36827;&#21475;20140421/&#39134;&#34892;&#26102;&#38388;&#36136;&#35889;&#20202;&#35770;&#35777;&#24847;&#35265;(&#40723;&#21169;&#36827;&#21475;&#65289;.doc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22269;&#20869;&#27809;&#26377;20140421/&#28608;&#20809;&#20849;&#32858;&#28966;&#26174;&#24494;&#38236;&#65288;&#22269;&#20869;&#27809;&#26377;&#65289;20140420.doc" TargetMode="External"/><Relationship Id="rId3" Type="http://schemas.openxmlformats.org/officeDocument/2006/relationships/hyperlink" Target="file:///&#22269;&#20869;&#27809;&#26377;20140421/&#36951;&#20256;&#20998;&#26512;&#20202;&#65288;&#22269;&#20869;&#27809;&#26377;&#65289;20140420.doc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22269;&#20135;&#25216;&#26415;&#21442;&#25968;&#19981;&#33021;&#28385;&#36275;20140421/&#27668;&#30456;&#33394;&#35889;&#20202;&#65288;&#22269;&#20869;&#35774;&#22791;&#21151;&#33021;&#19981;&#33021;&#28385;&#36275;&#65289;.doc" TargetMode="External"/><Relationship Id="rId3" Type="http://schemas.openxmlformats.org/officeDocument/2006/relationships/hyperlink" Target="file:///&#22269;&#20135;&#25216;&#26415;&#21442;&#25968;&#19981;&#33021;&#28385;&#36275;20140421/&#25919;&#24220;&#37319;&#36141;&#36827;&#21475;&#20135;&#21697;&#30003;&#35831;&#34920;&#65288;&#22269;&#20869;&#35774;&#22791;&#25216;&#26415;&#21442;&#25968;&#19981;&#28385;&#36275;&#65289;.doc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25307;&#26631;&#35774;&#22791;&#25216;&#26415;&#21442;&#25968;20140421/&#27668;&#30456;&#33394;&#35889;&#20202;&#25216;&#26415;&#21442;&#25968;20140421.doc" TargetMode="External"/><Relationship Id="rId3" Type="http://schemas.openxmlformats.org/officeDocument/2006/relationships/hyperlink" Target="file:///&#25307;&#26631;&#35774;&#22791;&#25216;&#26415;&#21442;&#25968;20140421/&#22235;&#20803;&#26799;&#24230;&#39640;&#25928;&#28082;&#30456;&#33394;&#35889;&#20202;&#25216;&#26415;&#21442;&#25968;20140421.doc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Verdana"/>
              </a:rPr>
              <a:t>怎样写好进口设备专家论证意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281916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黄晓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            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现代实验技术（管理）中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014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年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月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3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363680" cy="125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7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7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7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7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2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怎样写好进口设备专家论证意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为什么需要购买进口设备，只要找出以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三种理由之一就符合购买进口设备的条件：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一、是否是国家鼓励进口设备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二、是否是国内不能生产的设备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三、是否是国内设备技术参数不能满足工作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要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2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怎样写好进口设备专家论证意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2.1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是否是国家鼓励进口设备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为了积极扩大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先进技术、关键装备及零部件、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缺资源性产品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的进口，支持重点行业发展，国家发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委、财政部、商务部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2007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年起，原则上每两年发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一次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仿宋_GB2312"/>
                <a:hlinkClick r:id="rId2"/>
              </a:rPr>
              <a:t>《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仿宋_GB2312"/>
                <a:hlinkClick r:id="rId3"/>
              </a:rPr>
              <a:t>关于印发鼓励进口技术和产品目录的通知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仿宋_GB2312"/>
                <a:hlinkClick r:id="rId4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《鼓励进口技术和产品目录》。鼓励各科研单位及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点行业引进和直接购买进口技术与设备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7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7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7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7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7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7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7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7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2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怎样写好进口设备专家论证意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2.1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是否是国家鼓励进口设备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014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年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月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3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日国家发改委、财政部、商务部第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四次发布了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关于印发鼓励进口技术和产品目录的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知》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及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014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年版的《鼓励进口技术和产品目录》。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件编号为：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发改产业［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014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］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26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号。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该文件及产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目录在国家发改委、财政部、商务部网站上都能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查到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7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97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97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97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97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97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97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97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2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怎样写好进口设备专家论证意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2.1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是否是国家鼓励进口设备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014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年版《鼓励进口技术和产品目录》的第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项（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类）为鼓励引进的先进技术，共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23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项（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A1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A223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）；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项 （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类）为鼓励进口的重要装备，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50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项（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B1-B150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；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第三项（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类）为鼓励发展的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点行业，共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75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项（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C1-C75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）；第四项（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D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类）为资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型产品、原材料，共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8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项（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D1-D18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97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97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97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97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97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97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97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97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97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2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怎样写好进口设备专家论证意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333ff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2.1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是否是国家鼓励进口设备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其中，我们高校需要的大部分进口检测设备，一般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可以从产品目录的第二项（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类）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鼓励进口的重要装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中查到，譬如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序号 商品编号             设备名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42 90248000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变仪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43 90275000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激光粒度分析仪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91 90272020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电泳仪：电源电压＞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00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92 90278019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质谱联用仪：液相色谱质谱联用仪、二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上气相色谱质谱联用仪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1.2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怎样写好进口设备专家论证意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1.2.1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是否是国家鼓励进口设备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只要在产品目录中找到了自己需要采购的目标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备，然后在申请表的</a:t>
            </a:r>
            <a:r>
              <a:rPr b="1" lang="zh-CN" sz="28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申请理由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和</a:t>
            </a:r>
            <a:r>
              <a:rPr b="1" lang="zh-CN" sz="28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专家论证意见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栏中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以注明，便找到了申请进口的充足理由。申请理由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专家意见可参考以下文字叙述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根据发改产业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[2014] 426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号文件，质谱仪（序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B92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商品编码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90278019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）属于国家鼓励进口的重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装备，特申请购买进口仪器。鼓励进口设备专家论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例子：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仿宋_GB2312"/>
                <a:ea typeface="仿宋_GB2312"/>
                <a:hlinkClick r:id="rId2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、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仿宋_GB2312"/>
                <a:ea typeface="仿宋_GB2312"/>
                <a:hlinkClick r:id="rId3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.</a:t>
            </a:r>
            <a:r>
              <a:rPr b="1" lang="zh-CN" sz="9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1.2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怎样写好进口设备专家论证意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1.2.2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是否是国内不能生产的设备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除了国家鼓励进口设备以外，还有一些国内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能生产的设备，只要不是国家限制进口的设备，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是可以通过政府采购途径购买的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譬如：遗传分析仪、激光共聚焦显微镜、扫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电子显微镜、透射电子显微镜、电子能谱仪、超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界流体色谱仪、圆二色色谱仪等都属于目前国内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时不能生产的设备。例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仿宋_GB2312"/>
                <a:ea typeface="仿宋_GB2312"/>
                <a:hlinkClick r:id="rId2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、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仿宋_GB2312"/>
                <a:ea typeface="仿宋_GB2312"/>
                <a:hlinkClick r:id="rId3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1.2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怎样写好进口设备专家论证意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1.2.3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是否是国内设备技术参数不能满足工作需要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有些设备国内虽然能够生产，但目前还属于仿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阶段，有些关键技术属于国外的专利，暂时不对中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开放，这样就使得某些国产设备的主要功能和关键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术参数与国外产品有一定的差距，导致不能满足科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工作的需要，而必须申请进口采购，只要用户找准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不能满足的充分理由，也是可以通过政府采购途径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买的。例如：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仿宋_GB2312"/>
                <a:ea typeface="仿宋_GB2312"/>
                <a:hlinkClick r:id="rId2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、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仿宋_GB2312"/>
                <a:ea typeface="仿宋_GB2312"/>
                <a:hlinkClick r:id="rId3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1.2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怎样写好进口设备专家论证意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300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1.2.3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是否是国内设备技术参数不能满足工作需要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  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不能满足的理由，</a:t>
            </a:r>
            <a:r>
              <a:rPr b="1" lang="zh-CN" sz="28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有些是功能方面不能满足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，如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分析型气相色谱仪，国产设备没有电子流量控制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，导致气体流动相流量有波动、基线漂移，复杂样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数据重复性差；</a:t>
            </a:r>
            <a:r>
              <a:rPr b="1" lang="zh-CN" sz="28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有些是技术参数如：灵敏度、检出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不能满足，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数据无法与国外检测机构比对和接轨，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以，必须申请采购进口设备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33ff"/>
                </a:solidFill>
                <a:latin typeface="Times New Roman"/>
              </a:rPr>
              <a:t>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00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§</a:t>
            </a: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1.3 </a:t>
            </a: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怎样写好政府采购设备的技术参数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67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用户根据科研共的需要，在充分调研市场和其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用户的基础上 ，认真写出复合政府采购要求的设备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术参数。技术参数主要包括：</a:t>
            </a:r>
            <a:r>
              <a:rPr b="1" lang="zh-CN" sz="24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设备名称、主要用途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主要功能、详细的技术参数、配置清单以及必要的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务要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      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技术参数是政府招标采购设备的主要依据。</a:t>
            </a:r>
            <a:r>
              <a:rPr b="1" lang="zh-CN" sz="24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技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参数写得越详细、越清楚、越正确，越能够采购复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用户要求的设备。例</a:t>
            </a:r>
            <a:r>
              <a:rPr b="0" lang="zh-CN" sz="2400" spc="-1" strike="noStrike" u="sng">
                <a:solidFill>
                  <a:srgbClr val="336699"/>
                </a:solidFill>
                <a:uFillTx/>
                <a:latin typeface="仿宋_GB2312"/>
                <a:ea typeface="仿宋_GB2312"/>
                <a:hlinkClick r:id="rId2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、</a:t>
            </a:r>
            <a:r>
              <a:rPr b="0" lang="zh-CN" sz="2400" spc="-1" strike="noStrike" u="sng">
                <a:solidFill>
                  <a:srgbClr val="336699"/>
                </a:solidFill>
                <a:uFillTx/>
                <a:latin typeface="仿宋_GB2312"/>
                <a:ea typeface="仿宋_GB2312"/>
                <a:hlinkClick r:id="rId3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ff"/>
                </a:solidFill>
                <a:latin typeface="Verdana"/>
              </a:rPr>
              <a:t>怎样写好进口设备专家论证意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ff"/>
                </a:solidFill>
                <a:latin typeface="Times New Roman"/>
              </a:rPr>
              <a:t>一、为什么要进行政府采购工作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Times New Roman"/>
                <a:ea typeface="黑体"/>
              </a:rPr>
              <a:t>二、怎样写好进口设备专家论证意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ff"/>
                </a:solidFill>
                <a:latin typeface="Times New Roman"/>
              </a:rPr>
              <a:t>三、怎样写好政府采购设备的技术参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36368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              </a:t>
            </a:r>
            <a:r>
              <a:rPr b="1" lang="zh-CN" sz="8000" spc="-1" strike="noStrike">
                <a:solidFill>
                  <a:srgbClr val="3333ff"/>
                </a:solidFill>
                <a:latin typeface="Verdana"/>
                <a:ea typeface="仿宋_GB2312"/>
              </a:rPr>
              <a:t>谢谢大家！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仿宋_GB2312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仿宋_GB2312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2d0f"/>
                </a:solidFill>
                <a:latin typeface="Verdana"/>
                <a:ea typeface="仿宋_GB2312"/>
              </a:rPr>
              <a:t>                          </a:t>
            </a:r>
            <a:r>
              <a:rPr b="1" lang="zh-CN" sz="2400" spc="-1" strike="noStrike">
                <a:solidFill>
                  <a:srgbClr val="9d2d0f"/>
                </a:solidFill>
                <a:latin typeface="Verdana"/>
                <a:ea typeface="仿宋_GB2312"/>
              </a:rPr>
              <a:t>13598061198@139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ff"/>
                </a:solidFill>
                <a:latin typeface="Verdana"/>
              </a:rPr>
              <a:t>§</a:t>
            </a:r>
            <a:r>
              <a:rPr b="0" lang="zh-CN" sz="3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</a:t>
            </a:r>
            <a:r>
              <a:rPr b="1" lang="zh-CN" sz="42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为什么要进行政府采购工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577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Times New Roman"/>
              </a:rPr>
              <a:t>1.1.1  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什么是政府采购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292560"/>
            <a:ext cx="81849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政府采购，就是一般意义上的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公共采购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，是指各级政府及其所属机构，为了开展日常政务活动或为公众提供公共服务的需要，在财政的监督下，</a:t>
            </a:r>
            <a:r>
              <a:rPr b="1" lang="zh-CN" sz="2800" spc="-1" strike="noStrike">
                <a:solidFill>
                  <a:srgbClr val="9d2d0f"/>
                </a:solidFill>
                <a:latin typeface="仿宋_GB2312"/>
                <a:ea typeface="仿宋_GB2312"/>
              </a:rPr>
              <a:t>以法定的方式、方法和程序，对货物、工程或服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d2d0f"/>
                </a:solidFill>
                <a:latin typeface="仿宋_GB2312"/>
                <a:ea typeface="仿宋_GB2312"/>
              </a:rPr>
              <a:t>购买。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政府采购不仅是指具体的采购过程，而且是采购政策、采购程序、采购过程及采购管理的总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，是一种对公共采购管理制度，是国家财政的重要组成部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§</a:t>
            </a:r>
            <a:r>
              <a:rPr b="0" lang="zh-CN" sz="3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</a:t>
            </a:r>
            <a:r>
              <a:rPr b="1" lang="zh-CN" sz="4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为什么要进行政府采购工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67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zh-CN" sz="3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.2</a:t>
            </a:r>
            <a:r>
              <a:rPr b="1" lang="zh-CN" sz="3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3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什么是</a:t>
            </a:r>
            <a:r>
              <a:rPr b="1" lang="zh-CN" sz="30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政府采购制度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9d2d0f"/>
                </a:solidFill>
                <a:latin typeface="仿宋_GB2312"/>
                <a:ea typeface="仿宋_GB2312"/>
              </a:rPr>
              <a:t>政府采购制度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是西方国家公共支出管理的一项重要制度，从问世至今已有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00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多年的历史。随着中国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002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年《政府采购法》的出台，中国形成了相对完善的政府采购法律体系，也即政府采购制度。政府采购实践也取得了一定的成果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但由于观念上没有转变，配套措施尚不健全，中国政府采购制度在实践中还存在许多问题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ff"/>
                </a:solidFill>
                <a:latin typeface="Verdana"/>
              </a:rPr>
              <a:t>§</a:t>
            </a:r>
            <a:r>
              <a:rPr b="0" lang="zh-CN" sz="3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</a:t>
            </a:r>
            <a:r>
              <a:rPr b="1" lang="zh-CN" sz="42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为什么要进行政府采购工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.1.3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我国建立政府采购制度的意义</a:t>
            </a:r>
            <a:r>
              <a:rPr b="0" lang="zh-CN" sz="26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一、政府采购有利于节省财政支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9d2d0f"/>
                </a:solidFill>
                <a:latin typeface="仿宋_GB2312"/>
                <a:ea typeface="仿宋_GB2312"/>
              </a:rPr>
              <a:t>节省财政支出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是推行</a:t>
            </a:r>
            <a:r>
              <a:rPr b="1" lang="zh-CN" sz="2800" spc="-1" strike="noStrike">
                <a:solidFill>
                  <a:srgbClr val="9d0f31"/>
                </a:solidFill>
                <a:latin typeface="仿宋_GB2312"/>
                <a:ea typeface="仿宋_GB2312"/>
              </a:rPr>
              <a:t>政府采购制度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的基本目的。由于竞争机制的引入，商家会在保证质量的前提下，以优惠的价格让利用户，为用户节省资金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当前我国财政管理中的三大症结是：</a:t>
            </a:r>
            <a:r>
              <a:rPr b="1" lang="zh-CN" sz="2800" spc="-1" strike="noStrike">
                <a:solidFill>
                  <a:srgbClr val="9d2d0f"/>
                </a:solidFill>
                <a:latin typeface="仿宋_GB2312"/>
                <a:ea typeface="仿宋_GB2312"/>
              </a:rPr>
              <a:t>财政资金短缺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9d2d0f"/>
                </a:solidFill>
                <a:latin typeface="仿宋_GB2312"/>
                <a:ea typeface="仿宋_GB2312"/>
              </a:rPr>
              <a:t>使用效率低下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和</a:t>
            </a:r>
            <a:r>
              <a:rPr b="1" lang="zh-CN" sz="2800" spc="-1" strike="noStrike">
                <a:solidFill>
                  <a:srgbClr val="9d2d0f"/>
                </a:solidFill>
                <a:latin typeface="仿宋_GB2312"/>
                <a:ea typeface="仿宋_GB2312"/>
              </a:rPr>
              <a:t>运作不透明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。这三个问题与过去</a:t>
            </a:r>
            <a:r>
              <a:rPr b="1" lang="zh-CN" sz="2800" spc="-1" strike="noStrike">
                <a:solidFill>
                  <a:srgbClr val="9d2d0f"/>
                </a:solidFill>
                <a:latin typeface="仿宋_GB2312"/>
                <a:ea typeface="仿宋_GB2312"/>
              </a:rPr>
              <a:t>分散采购制度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不无联系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</a:t>
            </a:r>
            <a:r>
              <a:rPr b="1" lang="zh-CN" sz="4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为什么要进行政府采购工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2096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.3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我国建立政府采购制度的意义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二、政府采购有利于用户采购到性价比好的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由于政府采购引入了竞争机制，</a:t>
            </a:r>
            <a:r>
              <a:rPr b="1" lang="zh-CN" sz="2800" spc="-1" strike="noStrike">
                <a:solidFill>
                  <a:srgbClr val="9d2d0f"/>
                </a:solidFill>
                <a:latin typeface="仿宋_GB2312"/>
                <a:ea typeface="仿宋_GB2312"/>
              </a:rPr>
              <a:t>即同一产品必须有三家以上不同厂家、不同品牌的产品进行竞争。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样，用户就能够在充分调研市场和其他用户的情况下，选择满足自己工作需要的、性价比高的产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.3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我国建立政府采购制度的意义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三、政府采购有利于用户购买到优质的服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由于竞争机制的引入，各生产企业或供应商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在激烈的市场竞争中，不仅比产品的质量，更重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的是在比产品的售后服务，比谁为用户提供的服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更周到、更方便、更贴心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</a:t>
            </a:r>
            <a:r>
              <a:rPr b="1" lang="zh-CN" sz="46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为什么要进行政府采购工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</a:t>
            </a: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为什么要进行政府采购工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.3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我国建立政府采购制度的意义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四、政府采购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仿宋_GB2312"/>
              </a:rPr>
              <a:t>有利于预防和消除腐败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在市场经济条件下，对物资、货物或设备的采购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及大笔的资金，稍有不慎，就会为某些部门领导提供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取个人私利的机会，为滋生腐败提供温床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实行政府采购制度有利于从源头上堵塞漏洞，为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腐倡廉提供制度保障。</a:t>
            </a:r>
            <a:r>
              <a:rPr b="0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§</a:t>
            </a:r>
            <a:r>
              <a:rPr b="0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</a:t>
            </a: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为什么要进行政府采购工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.1.3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我国建立政府采购制度的意义</a:t>
            </a:r>
            <a:r>
              <a:rPr b="0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五、政府采购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仿宋_GB2312"/>
              </a:rPr>
              <a:t>有利于为决策者和主要参与者避嫌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通过政府采购购买货物或服务，对于用户来说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不管是市场调研还是参数撰写、专家论证、逐级审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和公示，直至招标采购到自己需要的产品，所有过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都是程序化的、透明的，一般过程也不会只让一个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参与。</a:t>
            </a: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这种阳光化的工作过程，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仿宋_GB2312"/>
              </a:rPr>
              <a:t>为决策者和主要参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仿宋_GB2312"/>
              </a:rPr>
              <a:t>者提供了避嫌的机会。</a:t>
            </a:r>
            <a:r>
              <a:rPr b="0" lang="zh-CN" sz="2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24T04:02:02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